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071F-02EE-4801-80B1-40BF319E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5F0E-1D92-4480-8A75-AADBA862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6D41-A858-4683-B9AC-9F719267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832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80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548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832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80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86A9-5998-4536-8695-B3F259F0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D37C-F72C-4CF1-978B-F471CF8C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A5F6-33AD-4B63-8E89-8E007F2C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EFC3-7D17-4040-B97F-B840AC71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0DB6-5480-4A35-9C26-672F119B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84BE-B0BD-49E6-AD82-6D3F1A95F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4240" y="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A9595-19D9-4C43-AB62-E5C25FE71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156D-99A8-45BD-87F8-C19BF1295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974D-2502-415E-860A-312784DE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6E0F-A666-4635-9A8E-78BBFC72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B91A4-61F6-45F4-8AD2-578BB62F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DA82B-8043-44D2-B48C-F05C616B8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A7B6-8ADE-4D67-AB52-4C1EDF2A1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832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30800" y="135720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548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832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30800" y="4044240"/>
            <a:ext cx="27831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ED03-2CB5-4D98-82CD-5984962A5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E216-C308-4225-A7F6-264A45EB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489F-000D-4936-9BF6-BB64326D7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A792-6598-46C1-88E4-E33D8187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86F7-EA74-4685-B57B-479CCFF68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5E22-4379-4E01-8959-BB765AB9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920" y="404424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E318-7DB5-4D4E-8322-E55C4DFF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548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920" y="1357200"/>
            <a:ext cx="421812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5480" y="4044240"/>
            <a:ext cx="8643960" cy="24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C045-27C4-4CAB-8E73-BF29E63F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9DD7-7B4C-4AB5-86A3-E9357F2501E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85480" y="1357200"/>
            <a:ext cx="864396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2F52-8426-4520-B428-2E6FF99EC7F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57720" y="1428480"/>
            <a:ext cx="56289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785760" y="3071520"/>
            <a:ext cx="370044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втор данного шаблона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Ермолаева Ирина Алексе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учитель информатики и математики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ОУ «Павловская сош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с.Павловс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Алтайский кра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85480" y="1357200"/>
            <a:ext cx="864396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06320" y="-6480"/>
            <a:ext cx="8242560" cy="10130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571400" y="1357200"/>
            <a:ext cx="7358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im6-tub.yandex.net/i?id=313833065-30-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img1.liveinternet.ru/images/attach/c/2/73/317/73317663_1b8597b9ee0bt.jp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ttp://rusforumz.com/library/template/fon/number/67-1.jp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Рисунок 5" descr=""/>
          <p:cNvPicPr/>
          <p:nvPr/>
        </p:nvPicPr>
        <p:blipFill>
          <a:blip r:embed="rId2"/>
          <a:stretch/>
        </p:blipFill>
        <p:spPr>
          <a:xfrm>
            <a:off x="428760" y="1285920"/>
            <a:ext cx="828720" cy="9270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"/>
          <p:cNvPicPr/>
          <p:nvPr/>
        </p:nvPicPr>
        <p:blipFill>
          <a:blip r:embed="rId3"/>
          <a:stretch/>
        </p:blipFill>
        <p:spPr>
          <a:xfrm>
            <a:off x="357120" y="2428920"/>
            <a:ext cx="1000080" cy="142884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7" descr=""/>
          <p:cNvPicPr/>
          <p:nvPr/>
        </p:nvPicPr>
        <p:blipFill>
          <a:blip r:embed="rId4"/>
          <a:stretch/>
        </p:blipFill>
        <p:spPr>
          <a:xfrm>
            <a:off x="357120" y="4429080"/>
            <a:ext cx="1023840" cy="8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8T03:48:09Z</dcterms:created>
  <dc:creator>Comp</dc:creator>
  <dc:description/>
  <dc:language>en-US</dc:language>
  <cp:lastModifiedBy>Comp</cp:lastModifiedBy>
  <dcterms:modified xsi:type="dcterms:W3CDTF">2011-07-28T03:54:40Z</dcterms:modified>
  <cp:revision>2</cp:revision>
  <dc:subject/>
  <dc:title>Слайд 1</dc:title>
</cp:coreProperties>
</file>