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5AD-19A1-413F-800A-6CAC5C4F5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EDB-3036-412C-AFB7-66369876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B73C-282F-4EA1-B955-75154533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66B-8074-4DB7-A7A2-958D46F09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53D3-06F2-4124-997F-2480526A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A380-C95D-44E1-A8CB-A073C1F6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49838-FD2A-4D16-8166-F245CE6F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CE24E-3D01-4097-A74A-2A65E5EE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EDF2D-1563-4612-85F6-15823F13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F918-27A6-477D-A04F-5A130267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A1B9-3570-430B-95AB-837CA334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9A7-00A8-42A7-82FC-8CF899A2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C585-B6E4-40D1-B887-BA82D5974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B14C-7492-47C9-AAB7-5EFDFD79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899CA-178E-4F9D-8157-EF76FC91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8212-D4EB-4DAD-A678-8D762510F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AFCA0-BD4E-44EE-BE3A-16B1410C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85C-AF1A-486A-A2D2-A2FEC04F2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CF7-D9D3-4D8E-9F66-9F4EA916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AF8D-9F9A-4C81-85E1-135FE9F2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392-D6BC-44B5-B019-D7C9D95C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FF59-658E-4CA7-9D4A-2DE6CD25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C437-9220-402C-AB92-73E8D33C4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986-DBC4-4CB1-8276-EA0D9D5D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F7D0-E33A-41ED-9B68-646947EFEA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7375e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74F7-6C01-44FB-9EFF-39DAF642B3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wallpampers.ru/pictures/1672/1440_globe.jpg" TargetMode="External"/><Relationship Id="rId3" Type="http://schemas.openxmlformats.org/officeDocument/2006/relationships/hyperlink" Target="http://files.vector-images.com/clipart/schoolsupplies_gk2.gif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168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17375e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2600" y="3857400"/>
            <a:ext cx="407196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с.Павловск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Arial"/>
                <a:ea typeface="Times New Roman"/>
              </a:rPr>
              <a:t>Алтайский край</a:t>
            </a: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375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000160" y="2428920"/>
            <a:ext cx="66866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wallpampers.ru/pictures/1672/1440_globe.jpg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iles.vector-images.com/clipart/schoolsupplies_gk2.gif</a:t>
            </a: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7375e"/>
              </a:solidFill>
              <a:latin typeface="Arial"/>
            </a:endParaRPr>
          </a:p>
        </p:txBody>
      </p:sp>
      <p:pic>
        <p:nvPicPr>
          <p:cNvPr id="88" name="Picture 2" descr="d:\Мои документы\Мои рисунки\schoolsupplies_gk2.gif"/>
          <p:cNvPicPr/>
          <p:nvPr/>
        </p:nvPicPr>
        <p:blipFill>
          <a:blip r:embed="rId4"/>
          <a:stretch/>
        </p:blipFill>
        <p:spPr>
          <a:xfrm>
            <a:off x="428760" y="3571920"/>
            <a:ext cx="1069920" cy="799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1440_globe.jpg"/>
          <p:cNvPicPr/>
          <p:nvPr/>
        </p:nvPicPr>
        <p:blipFill>
          <a:blip r:embed="rId5"/>
          <a:stretch/>
        </p:blipFill>
        <p:spPr>
          <a:xfrm>
            <a:off x="428760" y="2500200"/>
            <a:ext cx="138564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31T17:09:33Z</dcterms:created>
  <dc:creator>Comp</dc:creator>
  <dc:description/>
  <dc:language>en-US</dc:language>
  <cp:lastModifiedBy>Comp</cp:lastModifiedBy>
  <dcterms:modified xsi:type="dcterms:W3CDTF">2011-07-31T17:14:32Z</dcterms:modified>
  <cp:revision>2</cp:revision>
  <dc:subject/>
  <dc:title>Слайд 1</dc:title>
</cp:coreProperties>
</file>